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wmf" ContentType="image/x-wmf"/>
  <Override PartName="/ppt/media/image7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D7F-B15B-4973-B144-015C9AF8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0FB-6C89-44C9-A7A1-C4C1706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B8F-40C3-4D19-A441-24AF2A08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9D6-5D30-41E8-8C15-0F89A224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FD8-9668-4D94-A1B4-4D6F509D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D65-48F6-4EA0-B279-448369A8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A1A-EC9A-4EC0-B6B5-16BCA057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5E2-38D4-477F-A2CF-97C48456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10C-96A2-4E9A-8544-41D54A9D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AF4-A6F9-48A9-99EB-BB6FF991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136-01C5-4E9B-A89C-87CD8F86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B8D-98BD-4609-A11A-73650081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3DD7-A3E0-4715-8F7B-587330B8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1600" y="6094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rush Script MT"/>
              </a:rPr>
              <a:t>Cornell Note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rush Script MT"/>
              <a:ea typeface="Brush Script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590920"/>
            <a:ext cx="5486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Brush Script MT"/>
              </a:rPr>
              <a:t> </a:t>
            </a: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Brush Script MT"/>
              </a:rPr>
              <a:t>A Method 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Brush Script MT"/>
              </a:rPr>
              <a:t>that Works!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Brush Script MT"/>
              <a:ea typeface="Brush Script M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22795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ly Asked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9219"/>
                </a:solidFill>
                <a:latin typeface="Times New Roman"/>
              </a:rPr>
              <a:t>Can I 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9219"/>
                </a:solidFill>
                <a:latin typeface="Times New Roman"/>
              </a:rPr>
              <a:t>both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9219"/>
                </a:solidFill>
                <a:latin typeface="Times New Roman"/>
              </a:rPr>
              <a:t>of the 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ea3"/>
                </a:solidFill>
                <a:latin typeface="Times New Roman"/>
              </a:rPr>
              <a:t>Can I 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ea3"/>
                </a:solidFill>
                <a:latin typeface="Times New Roman"/>
              </a:rPr>
              <a:t>penc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brevi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124080" y="198108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9219"/>
                </a:solidFill>
                <a:latin typeface="Times New Roman"/>
              </a:rPr>
              <a:t>No.  Use only the front.  Ink bleeds through the paper and distorts your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ea3"/>
                </a:solidFill>
                <a:latin typeface="Times New Roman"/>
              </a:rPr>
              <a:t>Even though pencil can erase, it is not a good choice.  Pencil smudges and fades; it also smears when highlighted.  (Exceptions in m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.  Abbr. when poss. &amp; paraphr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600" y="228600"/>
            <a:ext cx="476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rite these on the left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914400"/>
            <a:ext cx="457200" cy="1509840"/>
          </a:xfrm>
          <a:prstGeom prst="downArrow">
            <a:avLst>
              <a:gd name="adj1" fmla="val 26389"/>
              <a:gd name="adj2" fmla="val 70833"/>
            </a:avLst>
          </a:pr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457200" cy="1509840"/>
          </a:xfrm>
          <a:prstGeom prst="downArrow">
            <a:avLst>
              <a:gd name="adj1" fmla="val 26389"/>
              <a:gd name="adj2" fmla="val 70833"/>
            </a:avLst>
          </a:pr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19051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52480" y="76212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ook 2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00200" y="3124080"/>
            <a:ext cx="6095880" cy="24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icago"/>
              </a:rPr>
              <a:t>Building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icago"/>
              <a:ea typeface="Chicag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icago"/>
              </a:rPr>
              <a:t>Backgroun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icago"/>
              <a:ea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43000" y="53352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d23"/>
                    </a:gs>
                    <a:gs pos="50000">
                      <a:srgbClr val="a32c0b"/>
                    </a:gs>
                    <a:gs pos="100000">
                      <a:srgbClr val="ff8d23"/>
                    </a:gs>
                  </a:gsLst>
                  <a:lin ang="8100000"/>
                </a:gra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d23"/>
                  </a:gs>
                  <a:gs pos="50000">
                    <a:srgbClr val="a32c0b"/>
                  </a:gs>
                  <a:gs pos="100000">
                    <a:srgbClr val="ff8d23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-381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by most major law scho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preferred note taking method in response to frustration over student test sc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272200" y="2438280"/>
            <a:ext cx="318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Why take note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1440" y="1905120"/>
            <a:ext cx="665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thinking ski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1440" y="3200400"/>
            <a:ext cx="681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what is said in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2160" y="4572000"/>
            <a:ext cx="67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ed notes make it eas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review material for test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162920" y="228600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92520" y="5943600"/>
            <a:ext cx="73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ing is a great tool for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66680" y="45720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fffff"/>
                    </a:gs>
                    <a:gs pos="50000">
                      <a:srgbClr val="3714ff"/>
                    </a:gs>
                    <a:gs pos="100000">
                      <a:srgbClr val="1fffff"/>
                    </a:gs>
                  </a:gsLst>
                  <a:lin ang="5400000"/>
                </a:gradFill>
                <a:latin typeface="Arial"/>
              </a:rPr>
              <a:t>Still don't buy it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fffff"/>
                  </a:gs>
                  <a:gs pos="50000">
                    <a:srgbClr val="3714ff"/>
                  </a:gs>
                  <a:gs pos="100000">
                    <a:srgbClr val="1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981080"/>
            <a:ext cx="8381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, how do you kn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’ve learn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il you s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’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3100320"/>
            <a:ext cx="41911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143000" y="45720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39219"/>
                    </a:gs>
                    <a:gs pos="100000">
                      <a:srgbClr val="572ea3"/>
                    </a:gs>
                  </a:gsLst>
                  <a:lin ang="5400000"/>
                </a:gradFill>
                <a:latin typeface="Apple Chancery"/>
              </a:rPr>
              <a:t>Summa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39219"/>
                  </a:gs>
                  <a:gs pos="100000">
                    <a:srgbClr val="572ea3"/>
                  </a:gs>
                </a:gsLst>
                <a:lin ang="5400000"/>
              </a:gradFill>
              <a:latin typeface="Apple Chancery"/>
              <a:ea typeface="Apple Chancery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1981080"/>
            <a:ext cx="297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ttom of the page, write a brief summary of the information covered in this lesson.  Draw a horizontal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ng your notes from your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920" y="2057400"/>
          <a:ext cx="4952880" cy="4419720"/>
        </p:xfrm>
        <a:graphic>
          <a:graphicData uri="http://schemas.openxmlformats.org/drawingml/2006/table">
            <a:tbl>
              <a:tblPr/>
              <a:tblGrid>
                <a:gridCol w="1541520"/>
                <a:gridCol w="341136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80880" y="57150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5791320"/>
            <a:ext cx="3264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arker Felt"/>
              </a:rPr>
              <a:t>Summ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5029200"/>
            <a:ext cx="3289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rizontal Lin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867280"/>
            <a:ext cx="838080" cy="486000"/>
          </a:xfrm>
          <a:prstGeom prst="leftRightArrow">
            <a:avLst>
              <a:gd name="adj1" fmla="val 50000"/>
              <a:gd name="adj2" fmla="val 34329"/>
            </a:avLst>
          </a:pr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447920" y="91440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Book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23880" y="3200400"/>
            <a:ext cx="6096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tudent Exampl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notebook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53240" cy="6400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09680" y="3808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lecture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211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lec%202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69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990720"/>
            <a:ext cx="6324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ook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43000" y="3276720"/>
            <a:ext cx="6934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adget"/>
              </a:rPr>
              <a:t>What does it look like?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adget"/>
              <a:ea typeface="Gadg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ummary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61959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32c0b"/>
                </a:solidFill>
                <a:latin typeface="Times New Roman"/>
              </a:rPr>
              <a:t>Set it Up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take out a piece of lined paper and fold the left edge to the center of the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, take out a variety of colored pens and a highli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, write your full academy heading and the title of the notes.  In this case, Cornell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286000"/>
          <a:ext cx="3429000" cy="4278240"/>
        </p:xfrm>
        <a:graphic>
          <a:graphicData uri="http://schemas.openxmlformats.org/drawingml/2006/table">
            <a:tbl>
              <a:tblPr/>
              <a:tblGrid>
                <a:gridCol w="1066680"/>
                <a:gridCol w="23623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ic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 txBox="1"/>
          <p:nvPr/>
        </p:nvSpPr>
        <p:spPr>
          <a:xfrm rot="5400000">
            <a:off x="-1397160" y="4216320"/>
            <a:ext cx="347976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ft Ed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733920"/>
            <a:ext cx="2362320" cy="733320"/>
          </a:xfrm>
          <a:custGeom>
            <a:avLst/>
            <a:gdLst>
              <a:gd name="textAreaLeft" fmla="*/ 427680 w 2362320"/>
              <a:gd name="textAreaRight" fmla="*/ 1640880 w 23623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24" hR="21600" stAng="10800000" swAng="5400000"/>
                <a:lnTo>
                  <a:pt x="11091" y="0"/>
                </a:lnTo>
                <a:arcTo wR="7824" hR="21600" stAng="-5400000" swAng="1796095"/>
                <a:lnTo>
                  <a:pt x="20399" y="10099"/>
                </a:lnTo>
                <a:lnTo>
                  <a:pt x="17282" y="21600"/>
                </a:lnTo>
                <a:lnTo>
                  <a:pt x="11762" y="10099"/>
                </a:lnTo>
                <a:lnTo>
                  <a:pt x="14447" y="10099"/>
                </a:lnTo>
                <a:arcTo wR="7824" hR="21600" stAng="-3603905" swAng="-1530785"/>
                <a:lnTo>
                  <a:pt x="9458" y="476"/>
                </a:lnTo>
                <a:arcTo wR="7824" hR="21600" stAng="-5665310" swAng="-5134690"/>
                <a:close/>
              </a:path>
              <a:path fill="darkenLess" w="21600" h="21600">
                <a:moveTo>
                  <a:pt x="0" y="21600"/>
                </a:moveTo>
                <a:arcTo wR="7824" hR="21600" stAng="10800000" swAng="5400000"/>
                <a:lnTo>
                  <a:pt x="7824" y="0"/>
                </a:lnTo>
                <a:arcTo wR="7824" hR="21600" stAng="-5400000" swAng="265310"/>
                <a:lnTo>
                  <a:pt x="9458" y="476"/>
                </a:lnTo>
                <a:arcTo wR="7824" hR="21600" stAng="-5665310" swAng="-5134690"/>
                <a:close/>
              </a:path>
            </a:pathLst>
          </a:cu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5791320"/>
            <a:ext cx="2514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ld lin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29200"/>
            <a:ext cx="814680" cy="685800"/>
          </a:xfrm>
          <a:custGeom>
            <a:avLst/>
            <a:gdLst>
              <a:gd name="textAreaLeft" fmla="*/ 0 w 814680"/>
              <a:gd name="textAreaRight" fmla="*/ 815040 w 814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579" y="2900"/>
                </a:lnTo>
                <a:lnTo>
                  <a:pt x="15579" y="0"/>
                </a:lnTo>
                <a:lnTo>
                  <a:pt x="21600" y="6079"/>
                </a:lnTo>
                <a:lnTo>
                  <a:pt x="15579" y="12158"/>
                </a:lnTo>
                <a:lnTo>
                  <a:pt x="15579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8d23"/>
              </a:gs>
              <a:gs pos="100000">
                <a:srgbClr val="e2ec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pitals"/>
              </a:rPr>
              <a:t>Learn by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rculanum"/>
              </a:rPr>
              <a:t>Lets practice taking not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2664000"/>
            <a:ext cx="38098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the following question on the left side of your pap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86000"/>
          <a:ext cx="4952880" cy="4419720"/>
        </p:xfrm>
        <a:graphic>
          <a:graphicData uri="http://schemas.openxmlformats.org/drawingml/2006/table">
            <a:tbl>
              <a:tblPr/>
              <a:tblGrid>
                <a:gridCol w="1676520"/>
                <a:gridCol w="327636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s the difference between the left and the righ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228600"/>
            <a:ext cx="285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of the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Name/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6000" y="7081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nell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698480"/>
            <a:ext cx="2127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752480"/>
            <a:ext cx="38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114800"/>
            <a:ext cx="47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86400" y="2819520"/>
            <a:ext cx="2514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forma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76720" y="2514600"/>
            <a:ext cx="2044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xamp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38680" y="1905120"/>
            <a:ext cx="2895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oncep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05320" y="4724280"/>
            <a:ext cx="269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efinitio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33920" y="3657600"/>
            <a:ext cx="965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act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400800" y="4038480"/>
            <a:ext cx="2152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flect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24480" y="5334120"/>
            <a:ext cx="254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spon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52680" y="5867280"/>
            <a:ext cx="350532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Process Seque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 rot="5400000">
            <a:off x="437400" y="108576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8286480" y="12384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R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24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32c0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38320" y="1981080"/>
            <a:ext cx="2971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variety of contrasting colors--red, blue, black, dark green, dark pur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 not use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right gre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7c80"/>
                </a:solidFill>
                <a:latin typeface="Times New Roman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a. Highlight key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286000"/>
          <a:ext cx="4952880" cy="4419720"/>
        </p:xfrm>
        <a:graphic>
          <a:graphicData uri="http://schemas.openxmlformats.org/drawingml/2006/table">
            <a:tbl>
              <a:tblPr/>
              <a:tblGrid>
                <a:gridCol w="1541520"/>
                <a:gridCol w="341136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Red,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lue</a:t>
                      </a: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ark green</a:t>
                      </a: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rk pur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 txBox="1"/>
          <p:nvPr/>
        </p:nvSpPr>
        <p:spPr>
          <a:xfrm>
            <a:off x="304920" y="304920"/>
            <a:ext cx="8458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hat Do Good Notes Look Like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200400"/>
            <a:ext cx="144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2c0b"/>
                </a:solidFill>
                <a:latin typeface="Arial"/>
              </a:rPr>
              <a:t>What are some colors I can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562720"/>
            <a:ext cx="14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3160" y="4964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8006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Why use co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0520" y="4800600"/>
            <a:ext cx="31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The use of color helps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organize and rem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your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5943600"/>
            <a:ext cx="2979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and Highlight important f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24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32c0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38680" y="1981080"/>
            <a:ext cx="2819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Always put a space between “chunks” of information.  This makes your notes easier to read and it helps break up the material in smaller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286000"/>
          <a:ext cx="4952520" cy="4278240"/>
        </p:xfrm>
        <a:graphic>
          <a:graphicData uri="http://schemas.openxmlformats.org/drawingml/2006/table">
            <a:tbl>
              <a:tblPr/>
              <a:tblGrid>
                <a:gridCol w="1540440"/>
                <a:gridCol w="34120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Red, blue, black, dark green, dark pur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 txBox="1"/>
          <p:nvPr/>
        </p:nvSpPr>
        <p:spPr>
          <a:xfrm>
            <a:off x="304920" y="304920"/>
            <a:ext cx="8458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ait, there's m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581280"/>
            <a:ext cx="144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2c0b"/>
                </a:solidFill>
                <a:latin typeface="Arial"/>
              </a:rPr>
              <a:t>What are some colors I can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5562720"/>
            <a:ext cx="14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3160" y="4964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51055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Why use co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60520" y="5105520"/>
            <a:ext cx="31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The use of color helps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organize and rem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2ea3"/>
                </a:solidFill>
                <a:latin typeface="Arial"/>
              </a:rPr>
              <a:t>your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4724280"/>
            <a:ext cx="3429000" cy="457200"/>
          </a:xfrm>
          <a:custGeom>
            <a:avLst/>
            <a:gdLst>
              <a:gd name="textAreaLeft" fmla="*/ 0 w 3429000"/>
              <a:gd name="textAreaRight" fmla="*/ 3429360 w 3429000"/>
              <a:gd name="textAreaTop" fmla="*/ 169920 h 457200"/>
              <a:gd name="textAreaBottom" fmla="*/ 287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8025"/>
                </a:moveTo>
                <a:lnTo>
                  <a:pt x="0" y="13575"/>
                </a:lnTo>
                <a:lnTo>
                  <a:pt x="10290" y="13575"/>
                </a:lnTo>
                <a:lnTo>
                  <a:pt x="10290" y="17775"/>
                </a:lnTo>
                <a:lnTo>
                  <a:pt x="8710" y="17775"/>
                </a:lnTo>
                <a:lnTo>
                  <a:pt x="10800" y="21600"/>
                </a:lnTo>
                <a:lnTo>
                  <a:pt x="12890" y="17775"/>
                </a:lnTo>
                <a:lnTo>
                  <a:pt x="11310" y="17775"/>
                </a:lnTo>
                <a:lnTo>
                  <a:pt x="11310" y="13575"/>
                </a:lnTo>
                <a:lnTo>
                  <a:pt x="21600" y="13575"/>
                </a:lnTo>
                <a:lnTo>
                  <a:pt x="21600" y="8025"/>
                </a:lnTo>
                <a:lnTo>
                  <a:pt x="11310" y="8025"/>
                </a:lnTo>
                <a:lnTo>
                  <a:pt x="11310" y="3825"/>
                </a:lnTo>
                <a:lnTo>
                  <a:pt x="12890" y="3825"/>
                </a:lnTo>
                <a:lnTo>
                  <a:pt x="10800" y="0"/>
                </a:lnTo>
                <a:lnTo>
                  <a:pt x="8710" y="3825"/>
                </a:lnTo>
                <a:lnTo>
                  <a:pt x="10290" y="3825"/>
                </a:lnTo>
                <a:lnTo>
                  <a:pt x="10290" y="8025"/>
                </a:lnTo>
                <a:close/>
              </a:path>
            </a:pathLst>
          </a:cu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24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a32c0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38680" y="1981080"/>
            <a:ext cx="2819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 Use pictures, graphs, charts, and other images to help you remember difficult information.  Pictures, like color, provide an additional stimulus when study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2286000"/>
          <a:ext cx="4952520" cy="4278240"/>
        </p:xfrm>
        <a:graphic>
          <a:graphicData uri="http://schemas.openxmlformats.org/drawingml/2006/table">
            <a:tbl>
              <a:tblPr/>
              <a:tblGrid>
                <a:gridCol w="1540440"/>
                <a:gridCol w="34120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32c0b"/>
                          </a:solidFill>
                          <a:latin typeface="Times New Roman"/>
                        </a:rPr>
                        <a:t>Does the Earth mov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32c0b"/>
                          </a:solidFill>
                          <a:latin typeface="Arial"/>
                        </a:rPr>
                        <a:t>Yes!  It revolves around the su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 txBox="1"/>
          <p:nvPr/>
        </p:nvSpPr>
        <p:spPr>
          <a:xfrm>
            <a:off x="304920" y="304920"/>
            <a:ext cx="8458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inal Tip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5812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562720"/>
            <a:ext cx="144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3160" y="4964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4038480"/>
            <a:ext cx="685800" cy="685800"/>
          </a:xfrm>
          <a:prstGeom prst="ellipse">
            <a:avLst/>
          </a:prstGeom>
          <a:solidFill>
            <a:srgbClr val="fff1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4952880"/>
            <a:ext cx="304920" cy="304920"/>
          </a:xfrm>
          <a:prstGeom prst="ellipse">
            <a:avLst/>
          </a:pr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39625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71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4:35:45Z</dcterms:created>
  <dc:creator>bullock_Paul</dc:creator>
  <dc:description/>
  <dc:language>en-US</dc:language>
  <cp:lastModifiedBy>Ebartell</cp:lastModifiedBy>
  <cp:lastPrinted>2001-10-10T19:06:35Z</cp:lastPrinted>
  <dcterms:modified xsi:type="dcterms:W3CDTF">2005-08-23T17:29:02Z</dcterms:modified>
  <cp:revision>43</cp:revision>
  <dc:subject/>
  <dc:title> </dc:title>
</cp:coreProperties>
</file>